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2.xml.rels" ContentType="application/vnd.openxmlformats-package.relationships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wmf" ContentType="image/x-wmf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2B20-0A4D-4B0D-BF47-85C241DECA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EAD3-0170-49E6-AA44-C1763CB56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C33-86BB-4287-8EFF-EB526321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981-33B9-4E7D-86D2-852C4A92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AB9-B530-4AD2-90A7-8D94BD3B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55B-F03A-417D-8A33-EFA402CD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619E3-F5A2-4986-8B2A-AE398ED4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0D606-90BC-4D5A-B203-8BCB943E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487DE-01F7-4A68-9C99-C4491D15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20CC3-23A4-4DB7-A886-903856F1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DE2AA-53D2-4E86-BCBD-332DC1AE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2FDF6-2E0A-421C-9E15-E4218CA1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20387-9EBD-4B1C-9965-A6D329FF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053-5E2E-49D9-9043-C695854B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91048-2D61-4527-AF07-BC09717A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AFC8C-BADB-430B-A82F-81DA48C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449D6-3CA7-424E-B337-FC3757EB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0C10D-DCCB-4C24-86DD-F2317673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20D67-BC93-4817-A9F3-5A5D0061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075CE-48BA-48F6-B454-BD58AE7F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EEF02-E5C0-466F-9CB2-B3B8ECD5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F7B4-F565-45B9-841D-5CA16853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CC2C-8D8D-4925-8E56-EDE6D782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4C981-A52C-4EB4-9F1C-D520B874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A48-D3AD-4462-822F-AA7B28FF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F817-DBAB-4E46-B780-4AAB525E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C7C7-D4E4-4A5C-A4C4-0044E5C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7463B-40DB-4D3F-9CE6-B996868A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3430-3273-4992-9963-827DC431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11B50-DBEF-41C6-9F31-B16260D7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38FD-49DC-4CFF-A919-8363C291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A262-8E26-4DB2-86F4-91A77959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67E60-BAA2-495D-B816-571C6BC9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39AD-DBAC-4C90-88EE-686E4CEA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C8897-A800-4946-A49F-06E8BCFF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078-02EB-4549-802C-48CD85D3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B805-03A4-4274-9134-B878D2D0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00F95-8A0F-4B5F-AA39-656A99FE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A8B61-62A1-43FD-88C5-7487F94B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37E9-8D5B-4B7C-B0AB-1851F9C9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A310-0322-47C2-BB16-9025934A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40EC8-50FE-478B-9089-68A78432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2AAC-1D3A-407F-A305-1C3B1233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9D109-EBBA-43E0-96D6-BFD56796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C0106-AB7E-4623-A70A-ECAAF383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CD1-2DD4-4ECD-AE86-00CAB3D8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1A9-0C20-4438-9CA0-5955D0DB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14B-AD87-4892-A1CE-D5334239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D66-3178-4826-8C89-CA32CA82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71A-C813-43D2-A0EF-AD8D233F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1FA0-8F39-436F-A5E6-98543ACE0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5E2F-76C0-4C02-8416-89DA09A26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90B6-637E-4449-8368-855871B5C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B264-F124-4C6A-A866-5C0CA0D5F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0595-A41A-4341-8912-8AC117129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14EE-BE7F-49E4-A862-077EAD0B5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8412-55BC-49A1-8D52-DD5CEEFA4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0737-856A-41D6-A6E7-196B4CF59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0362b9"/>
                </a:solidFill>
                <a:latin typeface="Arial"/>
              </a:rPr>
              <a:t>Учебная дисципли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рхитектура информационных систем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2349000"/>
            <a:ext cx="822960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кция 2 (6 часов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сновы архите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информационных систе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04DF-05D4-4B65-9277-3018D8847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 четвертом уровне детализируются элементы третьего уровня. Устройство управления (УУ) представлено в виде четырех составляющих: логики программной последовательности — электронных схем, обеспечивающих выполнение команд программы в последовательности, предписываемой программой; регистров и дешифраторов устройства управления; управляющей памяти; логики формирования управления, генерирующей все необходимые управляющие сигналы. Применительно к параллельным и распределенным многопроцессорным и мно­гомашинным вычислительным системам зачастую вводят понятие «метауровня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88A5-B9D5-4C7B-92C1-F3539E274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основе архитектуры современных ВМ лежит представление алгоритма решения задачи в виде программы последовательных вычислений. Согласно стандарту ISO 2382/1-84, программа для ВМ — это «упорядоченная последовательность команд, подлежащая обработке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лгоритм — одно из фундаментальных понятий математики и вычислительной техники. Международная организация стандартов (ISO) формулирует понятие алгоритм как «конечный набор предписаний, определяющий решение задачи посредством конечного количества операций» (ISO 2382/1-84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DE42-FC03-48FD-A942-EF230146B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сновными свойствами алгоритма являются: дискретность, определенность, массовость и результативность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искретность выражается в том, что алгоритм описывает действия над дискретной информацией (например, числовой или символьной), причем сами эти действия также дискретны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войство определенности означает, что в алгоритме указано все, что должно быть сделано, причем ни одно из действий не должно трактоваться двояко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Массовость алгоритма подразумевает его применимость к множеству значений исходных данных, а не только к каким-то уникальным значениям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Результативность алгоритма состоит в возможности получения результата за конечное число шаг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1681-5E45-47C9-82ED-D258415C8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М, где определенным образом закодированные команды программы хранятся в памяти, известна под названием вычислительной машины с хранимой в памяти программой. Идея принадлежит создателям вычислителя ENIАС Эккерту, Мочли и фон Нейману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щность фон-неймановской концепции вычислительной машины можно свести к четырем принципам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воичного кодировани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граммного управления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днородности памяти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дрес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4692-D911-4052-A610-638209C12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гласно принципу двоичного кодирования вся информация, как данные, так и команды, кодируются двоичными цифрами 0 и 1. Каждый тип информации представляется двоичной последовательностью и имеет свой формат. Последовательность битов в формате, имеющая определенный смысл, называется полем. В числовой информации обычно выделяют поле знака и поле значащих разрядов. В формате команды можно выделить два поля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ле кода операци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ле адресов (адресную часть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188F-F21D-4005-95AD-A6BA86563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д операции представляет собой указание, какая операция должна быть выполнена, и задается с помощью двоичной комбинаци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ид адресной части и число составляющих ее адресов зависят от типа команды: в командах преобразования данных АЧ содержит адреса объектов обработки (операндов) и результата; в командах изменения порядка вычислений — адрес следующей команды программы; в командах ввода/вывода — номер устройства ввода/ вывода. Адресная часть также представляется двоичной последовательностью. Таким образом, команда в вычислительной машине имеет вид (длина кода операции + длина поля адресов)-разрядной двоичной комбинаци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8F26-D8A7-472D-BC1C-23189FF7B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цип программного управл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вычисления, предусмотренные алгоритмом решения задачи, должны быть пред­ставлены в виде программы, состоящей из последовательности управляющих слов — команд. Каждая команда предписывает некоторую операцию из набора операций, реализуемых вычислительной машиной. Команды программы хранятся в последовательных ячейках памяти вычислительной машины и выполняются в естественной последовательности, то есть в порядке их положения в программ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28DB-27ED-4E8F-9BB2-730AE2F5D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необходимости, с помощью специальных команд, эта последовательность может быть изменена. Решение об изменении порядка выполнения команд программы принимается либо на основании анализа результатов предшествующих вычислений, либо безусло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цип однородности памя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анды и данные хранятся в одной и той же памяти и внешне в памяти неразличимы. Распознать их можно только по способу использова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155E-789A-4F27-8463-6E9CC2DA5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позволяет производить над командами те же операции, что и над числами, и, соответственно, открывает ряд возможностей. Так, циклически изменяя адресную часть команды, можно обеспечить обращение к последовательным элементам массива данных. Более полезным является другое следствие принципа однородности, когда команды одной программы могут быть получены как результат исполнения другой програм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B88C-4AB8-4659-849D-1DA9A6F5F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адрес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уктурно основная память состоит из пронумерованных ячеек, причем процессору в произвольный момент доступна любая ячейка. Двоичные коды команд и данных разделяются на единицы информации, называемые словами, и хранятся в ячейках памяти, а для доступа к ним используются номера соответствующих ячеек — адре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E181-399D-419E-9F3D-D9BB8986A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просы лекц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2828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 Понятие информационной систем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Понятие вычислительной системы и ее архитекту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. Информационные системы и их архитекту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0B97-DB19-483C-9F57-7ECBEED92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н-неймановская архитекту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нство современных ВМ по своей структуре отвечают принципу программного управления. Типичная фон-неймановская ВМ содержит: память, устройство управления, арифметико-логическое устройство и устройство ввода/выв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Сравнить определения информационной системы и вычислительной системы. Найти различ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Сравнить определения архитектуры информационной системы и  архитектуры вычислительной системы. Найти различ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4612-502A-4288-A542-2BA3DAB41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хитектура информационной систем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нцепция, определяющая модель, структуру, выполняемые функции и взаимосвязь компонентов информационной систем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оненты информационной системы по выполняемым функциям можно разделить на три слоя: слой представления, слой бизнес-логики и слой доступа к данны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5479-9001-4F68-A09E-1345A80CF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лой представл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се, что связано с взаимодействием с пользователем: нажатие кнопок, движение мыши, отрисовка изображения, вывод результатов поиск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изнес логи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ила, алгоритмы реакции приложения на действия пользователя или на внутренние события, правила обработки данны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лой доступа к данны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хранение, выборка, модификация и удаление данных, связанных с решаемой приложением прикладной задач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2A00-D397-44B6-AE27-18A5EA44B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айл-серверная архитекту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явились локальные сети. Файлы начали передаваться по сети. Сначала были одноранговые сети - все компьютеры равноправны. Потом возникла идея хранения всех общедоступных файлов на выделенном компьютере в сети - файл-сервер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7189-EE1C-4B9B-B6C2-29CC97829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282680" y="4076640"/>
            <a:ext cx="6591240" cy="2590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66D1-51CA-4BF0-9A09-03AAE2856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856720" cy="6077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йл-серверные приложения — приложения, схожие по своей структуре с локальными приложениями и использующие сетевой ресурс для хранения программы и данных. Функции сервера: хранения данных и кода программы. Функции клиента: обработка данных происходит исключительно на стороне клиен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о клиентов ограничено десятка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с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Многопользовательский режим работы с данным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Удобство централизованного управления доступом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Низкая стоимость разработ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287F-AB9A-49AE-9FE3-6074F7913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у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Низкая производитель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Низкая надеж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лабые возможности расши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 архитектуры с файловым сервером:  данные хранятся в одном месте, а обрабатываются в другом. Это означает, что их нужно передавать по сети, что приводит к очень высоким нагрузкам на сеть и, вследствие этого, резкому снижению производительности приложения при увеличении числа одновременно работающих кли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0B3A-3623-4BAA-AB92-C7FE31553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ым важным недостатком такой архитектуры является децентрализованное решение проблем целостности и согласованности данных и одновременного доступа к данным. Такое решение снижает надежность прилож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иент-серверная архитекту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ючевым отличием архитектуры клиент-сервер от архитектуры файл-сервер является абстрагирование от внутреннего представления данных (физической схемы данных). Теперь клиентские программы манипулируют данными на уровне логической схе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063F-0364-4B03-9BD7-88977F418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архитектуры клиент-сервер позволило создавать надежные (в смысле целостности данных) многопользовательские ИС с централизованной базой данных, независимые от аппаратной (а часто и программной) части сервера БД и поддерживающие графический интерфейс пользователя (ГИП) на клиентских станциях, связанных локальной сетью. Причем издержки на разработку приложений существенно сокращалис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0CA8-B5D0-45C2-B5B5-80BFA9D5B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особен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иентская программа работает с данными через запросы к серверному П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овые функции приложения разделены между клиентом и сервер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843F-F516-4388-A9C3-F2E1936ED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352520" y="3645000"/>
            <a:ext cx="6524640" cy="302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онятие информационной системы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79280" y="1125360"/>
            <a:ext cx="885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едеральный закон Российской Федерации от 27 июля 2006 г. № 149-ФЗ «Об информации, информационных техноло-гиях и о защите информации»: «Инфор-мационная система — совокупность содер-жащейся в базах данных информации и обеспечивающих ее обработку информа-ционных технологий и технических средств».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десь во главу угла ставится понятие базы данны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2B80-8A87-494B-8958-ED8681026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ная поддержка многопользовательской рабо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рантия целостности д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у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знес логика приложений осталась в клиентском ПО. При любом изменении алгоритмов, надо обновлять пользовательское ПО на каждом клиент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ие требования к пропускной способности коммуникационных каналов с сервером, что препятствует использование клиентских станций иначе как в локальной се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E043-CF0B-48D5-A073-4C64C8473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бая защита данных от взлома, в особенности от недобросовестных пользователей систе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сложность администрирования и настройки рабочих мест пользователей систе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бходимость использовать мощные ПК на клиентских места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сложность разработки системы из-за необходимости выполнять бизнес-логику и обеспечивать пользовательский интерфейс в одной программ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AAE0-BEC2-441A-99A6-0CC43E4F7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E2AC-51EE-42C7-9FCA-54B4B5BFE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5877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нство недостатков классической или 2-х слойной архитектуры клиент-сервер проистекают от использования клиентской станции в качестве исполнителя бизнес-логики ИС. Поэтому очевидным шагом дальнейшей эволюции архитектур ИС явилась идея "тонкого клиента", то есть разбиения алгоритмов обработки данных на части связанные с выполнением бизнес-функций и связанные с отображением информации в удобном для человека представлении. При этом на клиентской машине оставляют лишь вторую часть, связанную с первичной проверкой и отображением информации, перенося всю реальную функциональность системы на серверную ча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9A5F-835C-46BC-8550-E008BCCCC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ходная к трехслойной архитектуре (2.5 слоя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хранимых процедур и вычисление данных на стороне сервера сокращают трафик, увеличивают безопасность. Клиент все равно реализует часть бизнес-логи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ая организация системы весьма напоминает организацию первых унитарных систем с той лишь разницей, что на пользовательском месте стоит не терминал (с пресловутым зеленым экраном), а персональный компьютер, обеспечивающий ГИП, например, в последнее время в качестве клиентских программ часто применяют стандартные www-браузе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9E3E-2C96-4897-8CAE-E76F2C575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й возврат к почти унитарным системам произошел уже на ином технологическом уровне. Обязательным стало использование СУБД со всеми их преимуществами. Программы для серверной части пишут, в основном, на специализированных языках, пользуясь механизмом хранимых процедур сервера БД. Таким образом, на уровне логической организации, ИС в архитектуре клиент-сервер с тонким клиентом расщепляется на три слоя - слой данных, слой бизнес-функций (хранимые процедуры) и слой представления. В такой схеме построения ИС не удается написать всю бизнес-логику приложения на не предназначенных для этого встроенных языках СУБ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EAD4-1955-4CD6-8BD4-46D1A6DA2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этому, очень часто часть бизнес-функций реализуется в клиентской части систем, которая от этого неотвратимо "толстеет". Отчасти поэтому, отчасти потому, что физически такие ИС состоят из двух компонентов, эту архитектуру часто называют 2.5-слойный клиент-серве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е от 2-х слойной архитектуры 2.5-слойная архитектура обычно не требует наличия высокоскоростных каналов связи между клиентской и серверной частями системы, так как по сети передаются уже готовые результаты вычислений - почти все вычисления производятся на серверной сторон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7062-5FB6-48E5-AA21-3BD47515B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. Информационные системы и их архитек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учшается защита информации - пользователям даются права на доступ к функциям системы, а не на доступ к ее данным и т.д. Вместе с преимуществами унитарного подхода архитектура 2.5 перенимает его недостатки: ограниченную масштабируемость, зависимость от программной платформы, ограниченное использование сетевых вычислительных ресурсов. Программы для серверной части системы пишутся на встроенных в СУБД языках описания хранимых процедур. Это снижает быстродействие системы, повышает трудоемкость создания с модификации ИС и негативно сказывается на стоимости аппаратных средств, необходимых для ее функционирова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FAD2-536B-48D2-BA07-2F4B8BA1A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ешения этих проблем и была предложена так называемая 3-х слойная архитектура клиент-сервер. Основным ее отличием от архитектуры 2.5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о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ение программ, отвечающих за хранение данных (СУБД) от программ эти данные обрабатывающих (сервер приложения (СП), application server (AS)). Такое разделение программных компонент позволяет оптимизировать нагрузки как на сетевое, так и на вычислительное оборудование комплекс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59FA-20AA-4CD0-833A-83B803B48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хуровневая клиент-серверная архитектур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B846-EA21-430A-A941-385EF3CB0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719280" y="1724040"/>
            <a:ext cx="7705440" cy="436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66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онятие информационной систем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79280" y="112392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дакционная коллегия журнала «Information Systems», определяет информационные системы как «аппаратно- программные системы, которые поддерживают приложения с интенсивной обработкой данных (Data- Intensive Applications)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узком смысле ИС определяют как подмножество компонентов, включающее базы данных и приложения, т. е. ИС в узком смысле определяют как программно- аппаратную систему, пред-назначенную для автоматизации целенаправленной деятельности конечных пользователей и обеспечивающую, в соответствии с заложенной в нее логикой обработки, возможность получения, модификации и хранения информ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176E-D26F-4100-9289-C3175A071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хуровневая клиент-серверная архитектур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BCC2-C354-4D8F-B208-B7BD32526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571680" y="1844640"/>
            <a:ext cx="8001000" cy="5013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оненты трѐхзвенной архитектуры, с точки зрения программного обеспечения реализуют определенные сервера БД, web-сервера и браузеры. Место любого из этих компонентов может занять программное обеспечение любого производителя. Ниже представлено описание взаимодействия компонентов трехуровневой архитектуры клиент-серверного приложения. Сервер БД представлен MySQL-сервером; сервер приложений технологиями: ADO.NET, ASP.NET и web-сервером IIS; роль клиента выполняет любой web-браузе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CCFC-CABC-47FF-9253-12C041949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раузер клиент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ве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няющая сред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P.NET 2.0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айдер данны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O.NET 2.0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ве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SQ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айдер данны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O.NET 2.0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6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няющая сред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P.NET 2.0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7-&gt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ве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8-&gt;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аузер клиен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— браузер клиента отправляет HTTP-запрос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— на стороне сервера служба Web Internet Information Server (web-сервер IIS) определяет тип запрашиваемого ресурса, и для случая запроса *.aspx (расширение файлов страниц ASP.NET) загружает соответствующее ему (запросу) расширение Internet Server Aplication Programming Interface (ISAP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3E8E-24AA-4161-9452-CB3216444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траниц aspx это расширение isapi_aspnet.dll. IIS также осуществляет идентификацию и авторизацию пользователя от которого поступил запрос. В свою очередь расширение isapi_aspnet.dll загружает фабрику обработчиков ASP.NET. Далее, фабрика обработчиков создает объектную модель запрашиваемой страницы и обрабатывает действия пользовател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— в ходе генерации ответа приложению ASP.NET может потребоваться обращение к БД, в этом случае используя библиотеки классов провайдера данных ADO.NET 2.0, выполняющая среда обращается к серверу БД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C8D8-A776-4AA1-A7AA-B592C8458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— провайдер данных ADO.NET 2.0 передает запрос на операцию с БД серверу MySQL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— сервер MySQL осуществляет обработку запроса, выполняя соответствующие операции с БД 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 — провайдер данных ADO.NET 2.0 передает результаты запроса объекту страницы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 — объект страницы с учетом полученных данных осуществляет рендеринг графического интерфейса страницы и направляет результаты в выходной поток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 — сервер IIS отправляет содержимое сгенерированной страницы клиентскому браузер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9390-3FBC-45DF-B4AB-AEFE4AFCC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79280" y="69192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сы:  1. Тонкий клиент. 2. Между клиентской программой и сервером приложения передается лишь минимально необходимый поток данных - аргументы вызываемых функций и возвращаемые от них значения. Это теоретический предел эффективности использования линий связи, даже работа с ANSI-терминалами (не говоря уже об использование протокола http) требует большей нагрузки на се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ервер приложения ИС может быть запущен в одном или нескольких экземплярах на одном или нескольких компьютерах, что позволяет использовать вычислительные мощности организации столь эффективно и безопасно как этого пожелает администратор И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34E7-76A8-45E7-A519-84B02A6F5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Дешевый трафик между сервером приложений и СУБД. Трафик между сервером приложений и СУБД может быть большим, однако это всегда трафик локальной сети, а их пропускная способность достаточно велика и дешева. В крайнем случае, всегда можно запустить СП и СУБД на одной машине, что автоматически сведет сетевой трафик к нул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Снижение нагрузки на сервер данных по сравнению с 2.5-слойной схемой, а значит и повышение скорости работы системы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Дешевле наращивать функциональность и обновлять П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D1EE-6D9D-430C-A63D-FD4FC3BBD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79280" y="1196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у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Выше расходы на администрирование и обслуживание серверной ч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штабируемость систем выполненных в 3-х слойной архитектуре впечатляет. Одна и та же система может работать как на одном отдельно стоящем компьютере, выполняя на нем программы СУБД, СП и клиентской части, так и в сети, состоящей из сотен и тысяч машин. Как уже было отмечено, единственным фактором, препятствующим бесконечной масштабируемости, является лишь требование ведения единой базы данны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905B-5678-4AA5-B565-CD6C3F755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рехуровневая клиент-серверная архитектура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79280" y="764640"/>
            <a:ext cx="878544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имо требования увеличения производительности системы с ростом масштабов деятельности важным фактором является и расширение ее функциональной наполненности. И здесь 3-х слойная схема выигрывает у своих предшественников. Для расширения функциональности не обязательно меня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у как в случае 2.5-слойной схемы - достаточно установить новый сервер приложения с требуемой функцией. Отпадают и многие проблемы связанные с переустановкой клиентских частей программы на множестве компьютеров, быть может весьма удаленных, столь актуальные для 2-слойной схемы - парадигма "тонкого" клиента предоставляет для этого целый ряд возможнос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04A1-CCC0-43F0-A740-79BEDC104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/Intranet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и </a:t>
            </a:r>
            <a:br>
              <a:rPr sz="2900"/>
            </a:br>
            <a:br>
              <a:rPr sz="29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79280" y="836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/Intranet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56DB-AE8D-4F90-833C-90172A6D0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56908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66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онятие информационной систем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79280" y="112392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иболее общая трактовка понятия ИС: «информационной системой называется комплекс, включающий вычислительное и коммуникационное оборудование, программное обеспечение, лингвистические средства и информационные ресурсы, а также системный персонал, обеспечивающий поддержку ди-намической информационной модели некоторой части реального мира для удовлетворения информационных потребностей пользователей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1013-BD28-4884-A68A-DF214A130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/Intranet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и </a:t>
            </a:r>
            <a:br>
              <a:rPr sz="2900"/>
            </a:br>
            <a:br>
              <a:rPr sz="29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9280" y="620640"/>
            <a:ext cx="8785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рхитектура на основе Internet/Intranet с мигрирующими программам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5D4E-2970-4762-9912-E134070AA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56720" cy="5300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9280" y="1125360"/>
            <a:ext cx="8785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ределенная систе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это набор независимых вычислительных машин, представляющийся их пользователям единой объединенной систем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м определении оговариваются два момента. Первый относится к аппаратуре: все машины автоном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касается программного обеспечения: пользователи думают, что имеют дело с единой системой. Важны оба момента. Позже в этой главе мы к ним вернемся, но сначала рассмотрим некоторые базовые вопросы, касающиеся как аппаратного, так и программного обеспеч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8351-F21D-4883-8D32-A1238F128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79280" y="549360"/>
            <a:ext cx="8785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и распределенных систем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От пользователей скрыты различия между компьютерами и способы связи между ними. То же самое относится и к внешней организации распределенных сист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Пользователи и приложения единообразно работают в распределенных системах, независимо от того, где и когда происходит их взаимодейств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ные системы должны легко поддаваться расширению, или масштабированию. Эта характеристика является прямым следствием наличия независимых компьютеров, но в то же время не указывает, каким образом эти компьютеры на самом деле объединяются в единую систе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80BA-314D-4DEB-9138-5BED86103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15640" y="549360"/>
            <a:ext cx="8785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поддержать представление системы в едином виде, организация распределенных систем включает в себя дополнительный уровень программного обеспечения, находящийся между верхним уровнем, на котором находятся пользователи и приложения, и нижним уровнем, состоящим из операционных систем. Пример организации распределенной системы в виде службы промежуточного уровня (см.Рис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F38B-1817-4A0A-8EC6-DF5DD8D4E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372960" y="4000680"/>
            <a:ext cx="8425080" cy="2857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5640" y="836640"/>
            <a:ext cx="8785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распределенных И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сыл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ержки выполнения запрос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ация/деактива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ое хра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ьное испол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каз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опас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сыл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сылки на объекты в программных модулях на ОО языках программирования (например, С++) являются указателями в памя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DB17-103D-4AA2-B51E-32A230710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15640" y="691920"/>
            <a:ext cx="8785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Ссылки на объекты в распределенных системах в противоположность являются более комплексным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1.Содержат информацию о размещен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2.Информацию о безопас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4.Ссылки на объектные ти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сылки на распределенные объекты значительно больше (40 байт для Orbix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ержки выполнения запрос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кальные вызовы требуют порядка пары сотен наносекунд. Запрос к объекту требует от 0.1 до 10 миллисекунд. Интерфейсы в распределенной системе должны быть спроектированы так, чтобы снизить время выполнения запросов:  1. Снизить частоту обра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Укрупнить выполняемые функ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C7DC-1F4F-4F62-AEC5-13916F9B4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79280" y="1197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ация/Деактива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ы в ОО языках находятся в виртуальной памяти от создания до уничтож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спределенных система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Больше объек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Объекты могут не использоваться на протяжении долгого време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лизации распределенных объек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ереносятся в память при актива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Удаляются из памяти при деактива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DC66-8994-4623-8EF9-77404F8CF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79280" y="1197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оянное хра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ы могут иметь или не иметь состоян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ы имеющие состояние должны сохранять его на постоянный носитель между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Деактивацией объек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ктивацией объек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т быть достигнуто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Записью в файловую систе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Отражением на реляционные Б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 помощью объектных Б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CCCC-681B-43AD-BBA8-337D284A7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79280" y="1197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аллельное испол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распределенных системах исполнение в основном последовательное, иногда конкурентное в разных нитях процесс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ные компоненты выполняются параллельно, что приводит к необходимости согласования выпол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каз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ы в распределенных системах имеют большую вероятность отказ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иенты обязаны проверять факт выполнения запросов сервер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3E4D-DDAC-44C1-9790-5FA06A59B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аспределенные информационные системы </a:t>
            </a:r>
            <a:br>
              <a:rPr sz="2900"/>
            </a:br>
            <a:br>
              <a:rPr sz="29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9280" y="1197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опас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опасность в ОО приложениях может выполняться на основе контроля сеанс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работе распределенных систем возникают вопросы безопасност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Кто запрашивает выполнение операци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Как мы можем удостовериться, что субъект является именно тем за кого он себя выдает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Как мы примем решение предоставлять или нет субъекту право на выполнение сервис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Как мы можем неопровержимо доказать, что сервис был предоставлен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DB3B-5539-474E-9A6E-BAF75D0BB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ельная машина — это комплекс технических и программных средств, предназначенный для автоматизации подготовки и решения задач пользова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ельная система это совокупность взаимосвязанных и взаимодействующих процессоров или вычислительных машин, периферийного оборудования и программного обеспечения, предназначенную для подготовки и решения задач пользова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3E58-D4F1-4D0D-9607-C202BFC03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79280" y="1197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Бурдаков А.В. – Распределенные вычислительные системы. Лекция №1, слайд 3-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Кузнецов – Архитектуры ИС. Слайд 12, 14, 20,21,22,23, 24, 25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офтСиб – Преимущества клиент-серверной перед файл-серверной технологией. http://www.soft-sib.ru/articles/programs/10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Танненбаум – Распределенные вычислительные системы. Глава 1.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Бурдаков А.В. – Распределенные вычислительные системы. Лекция №3, слайд 3-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DBA9-C07B-4B31-B31F-BC63D7B87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нтрализованная архитекту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C69F-A5F2-4884-8309-55C042EBD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стоинства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льзователи совместно используют дорогие ресурсы ЭВМ и дорогие периферийные устройств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нтрализация ресурсов и оборудования облегчает обслуживание и эксплуатацию вычислительной систем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тсутствует необходимость администрирования рабочих мест пользователей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Главный недостаток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льзователи полностью зависят от администратора хост-ЭВ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1066680" y="819000"/>
            <a:ext cx="763272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spcBef>
                <a:spcPts val="649"/>
              </a:spcBef>
              <a:buClr>
                <a:srgbClr val="ff3300"/>
              </a:buClr>
              <a:buFont typeface="Wingdings" charset="2"/>
              <a:buChar char="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7868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мпоновщик 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osite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7" descr=""/>
          <p:cNvPicPr/>
          <p:nvPr/>
        </p:nvPicPr>
        <p:blipFill>
          <a:blip r:embed="rId1"/>
          <a:srcRect l="0" t="0" r="39605" b="0"/>
          <a:stretch/>
        </p:blipFill>
        <p:spPr>
          <a:xfrm>
            <a:off x="2857680" y="1143000"/>
            <a:ext cx="3214440" cy="2214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bce7fa">
                <a:alpha val="50000"/>
              </a:srgbClr>
            </a:outerShdw>
          </a:effectLst>
        </p:spPr>
      </p:pic>
      <p:sp>
        <p:nvSpPr>
          <p:cNvPr id="481" name=""/>
          <p:cNvSpPr txBox="1"/>
          <p:nvPr/>
        </p:nvSpPr>
        <p:spPr>
          <a:xfrm>
            <a:off x="457200" y="34290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обрабатывать группу или композицию структур объектов одновременно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Решение заключается в определении классов для композитных и атомарных объектов таким образом, чтобы они реализовывали один и тот же интерфейс, а также имели ссылки на своих детей, и, возможно, на род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A86B-1662-4397-BDC2-382DDBB9C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 архитектурой вычислительной машины обычно понимается логическое построение ВМ, то есть то, какой машина представляется программисту. Из рассмотрения выпадают вопросы физического построения вычислительных средств: состав устройств, число регистров процессора, емкость памяти, наличие специального блока для обработки вещественных чисел, тактовая частота центрального процессора и т.д. Этот круг вопросов принято определять понятием организация вычислительной маш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504C-DD7F-46BC-9112-0BAFB363D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Уровни детализации структуры вычислительной машин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а — уровень «черного ящика»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б — уровень общей архитектуры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— уровень архитектуры центрального процессора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г — уровень архитектуры устройства управлени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а первом уровне вычислительная машина рассматривается как устройство, способное хранить и обрабатывать информацию, а также обмениваться данными с внешним миром. ВМ представляется «черным ящиком», который может быть подключен к коммуникационной сети и к которому, в свою очередь, могут подсоединяться периферийные устройства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396B-B0BF-4A7D-9AF9-2DA271482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76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.Понятие вычислительной системы и ее архитектуры</a:t>
            </a:r>
            <a:br>
              <a:rPr sz="29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Уровень общей архитектуры предполагает представление ВМ в виде четырех составляющих: центрального процессора (ЦП), основной памяти (ОП), устройства ввода/вывода (УВВ) и системы шин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а третьем уровне детализируется каждое из устройств второго уровня. Для примера взят центральный процессор.  В простейшем варианте в нем можно выделить: арифметико-логическое устройство (АЛУ), обеспечивающее обработку целых чисел; блок обработки чисел в формате с плавающей запятой (БПЗ); регистры процессора, использующиеся для краткосрочного хранения команд, данных и адресов; устройство управления (УУ), обеспечивающее совместное функционирование устройств ВМ; внутренние шины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BF3E-5433-468E-A823-4D05E849C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1</cp:lastModifiedBy>
  <dcterms:modified xsi:type="dcterms:W3CDTF">2013-01-24T16:06:02Z</dcterms:modified>
  <cp:revision>88</cp:revision>
  <dc:subject> Лекция 4. Архитектурные особенности проектирования и разработки Веб-приложений</dc:subject>
  <dc:title>Современные веб-технологии. Подробный курс</dc:title>
</cp:coreProperties>
</file>