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2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28B3-D5A1-499E-BBB5-9DDA7F9F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F79-DBDE-452E-BFFE-5F0EF274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6E5-2DD0-481D-B8CE-5E4188AE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7A3-95BC-4E43-8F35-CF8BCA16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FB5FA-E3E1-4388-A543-12C70A56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C3C62-1550-4149-9CBA-A49D2460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9899F-6B9C-444C-A425-1FA86990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D5016-DAC9-4B3B-80B9-9C6CA4EB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A8728-68B6-4473-946A-94E51061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6C7CE-0B55-4EFA-B3FF-F9E5FD2F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F4626-4C4C-4DE9-84F4-A6EE0BC4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F43-FED6-4AAC-B39B-EDDFAFD5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F81B9-1BAC-4614-9CED-448136ED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48021-5231-4E9A-BE53-F54985A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DFD31-CB56-4E18-A4A7-BD40B39F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6AC72-6207-42C1-8C8B-E3731EBF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37420-49BA-4DCF-8B0A-347488C7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B64F0-0D85-4D97-BD2D-000207C5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3E6B2-02A4-4275-AF48-9F501762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61B5B-50AC-4B7C-B62D-71CDDBBB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BB6AD-9554-417C-A763-384A11AD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C6DC0-DC25-4923-9DAA-D5556544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9848-A9B3-466E-90B1-CD6ADC4F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EC808-1733-4F33-B3A9-B154A5B2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942A0-8188-47C8-B528-3EE9180F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D386-AFAE-4B68-A887-5949035B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9F906-4DBF-4799-AD10-7076BBED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08CC3-586C-4419-AA42-BCC9D5AA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F269-4F7E-45B9-93EC-68EA418A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200D4-4A60-4B24-AEAB-4673283F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2C93F-18EC-4391-9313-9C0D2CE2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B48DB-53FE-472E-ABA0-48E6F0EB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3D4EE-190D-464F-B840-2BCC2071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DFC-B31F-4AB9-BEF2-D489E795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7E634-E381-456C-930B-950BE1AF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1668F-F66D-4322-91F3-654163E7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C3B25-A981-4930-8971-5EFA873F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672C2-151B-47BC-A417-B62E6F3E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365A9-A311-4609-A593-3A270DC2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22798-6663-488C-9C14-2C04B85A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F051C-FB04-4200-88E8-0F766246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7D7A9-4BB6-49A3-A24C-CF3AD18E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64C83-92CB-4942-8FB9-E7A671EC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D3E-3D91-440B-B3F7-D53ED428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A25-51BB-4D49-ADB4-B5351A46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4CB-36C2-4961-BF38-51137ACF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F59-1C31-4046-95EC-3A64B15D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774-12FB-4F56-88BA-4A96BFCE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1000080"/>
            <a:chOff x="0" y="0"/>
            <a:chExt cx="9144000" cy="100008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EF7C-2C09-41EA-AF12-D9E645AB2E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153D-214C-4BE2-8069-11C94C5F9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0" y="0"/>
            <a:ext cx="9144000" cy="1000080"/>
            <a:chOff x="0" y="0"/>
            <a:chExt cx="9144000" cy="1000080"/>
          </a:xfrm>
        </p:grpSpPr>
        <p:pic>
          <p:nvPicPr>
            <p:cNvPr id="48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" name="Rectangle 6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6" descr="star"/>
          <p:cNvPicPr/>
          <p:nvPr/>
        </p:nvPicPr>
        <p:blipFill>
          <a:blip r:embed="rId6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9" descr="star"/>
          <p:cNvPicPr/>
          <p:nvPr/>
        </p:nvPicPr>
        <p:blipFill>
          <a:blip r:embed="rId7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star"/>
          <p:cNvPicPr/>
          <p:nvPr/>
        </p:nvPicPr>
        <p:blipFill>
          <a:blip r:embed="rId8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oup 101" descr=""/>
          <p:cNvPicPr/>
          <p:nvPr/>
        </p:nvPicPr>
        <p:blipFill>
          <a:blip r:embed="rId9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68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69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70" name="Freeform 21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73" name="Freeform 22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" name="Straight Connector 8" descr=""/>
            <p:cNvPicPr/>
            <p:nvPr/>
          </p:nvPicPr>
          <p:blipFill>
            <a:blip r:embed="rId12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77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78" name="Freeform 19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81" name="Freeform 20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84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85" name="Freeform 17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88" name="Freeform 18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91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92" name="Freeform 15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9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98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99" name="Freeform 13" descr=""/>
                <p:cNvPicPr/>
                <p:nvPr/>
              </p:nvPicPr>
              <p:blipFill>
                <a:blip r:embed="rId19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02" name="Freeform 14" descr=""/>
                <p:cNvPicPr/>
                <p:nvPr/>
              </p:nvPicPr>
              <p:blipFill>
                <a:blip r:embed="rId20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4" name="Picture 230" descr="star"/>
          <p:cNvPicPr/>
          <p:nvPr/>
        </p:nvPicPr>
        <p:blipFill>
          <a:blip r:embed="rId21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1A54-0899-469D-AA4A-B021F99703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5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6269-3DE2-4FDD-92F8-E3CC68121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6"/>
          <p:cNvGrpSpPr/>
          <p:nvPr/>
        </p:nvGrpSpPr>
        <p:grpSpPr>
          <a:xfrm>
            <a:off x="0" y="0"/>
            <a:ext cx="9144000" cy="1000080"/>
            <a:chOff x="0" y="0"/>
            <a:chExt cx="9144000" cy="1000080"/>
          </a:xfrm>
        </p:grpSpPr>
        <p:pic>
          <p:nvPicPr>
            <p:cNvPr id="147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A463-A25B-4088-93B3-8757939A69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256D-B777-4EC8-A096-43D29CDE8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Rectangle 6"/>
          <p:cNvGrpSpPr/>
          <p:nvPr/>
        </p:nvGrpSpPr>
        <p:grpSpPr>
          <a:xfrm>
            <a:off x="0" y="0"/>
            <a:ext cx="9144000" cy="1000080"/>
            <a:chOff x="0" y="0"/>
            <a:chExt cx="9144000" cy="1000080"/>
          </a:xfrm>
        </p:grpSpPr>
        <p:pic>
          <p:nvPicPr>
            <p:cNvPr id="194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200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201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202" name="Freeform 21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205" name="Freeform 22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7" name="Straight Connector 8" descr=""/>
            <p:cNvPicPr/>
            <p:nvPr/>
          </p:nvPicPr>
          <p:blipFill>
            <a:blip r:embed="rId6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209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210" name="Freeform 1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213" name="Freeform 2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216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217" name="Freeform 17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220" name="Freeform 18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223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224" name="Freeform 15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227" name="Freeform 16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230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231" name="Freeform 13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234" name="Freeform 14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6" name="Picture 230" descr="star"/>
          <p:cNvPicPr/>
          <p:nvPr/>
        </p:nvPicPr>
        <p:blipFill>
          <a:blip r:embed="rId15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41D5-807B-440B-BA0D-3B642CB14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EFD7-0DD6-4B3F-89F0-442EB6DE1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4716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0362b9"/>
                </a:solidFill>
                <a:latin typeface="Arial"/>
              </a:rPr>
              <a:t>Учебная дисципли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рхитектура информационных систем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349000"/>
            <a:ext cx="822960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кция 1 (4 часа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рхитектурный подхо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к информационным система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FBB4-9C81-4136-A34F-AC7F55F63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вухуровневая архитектура «клиент-сервер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FB13-49E8-42CA-94CD-035C5D74E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18872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Достоинства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озможность распределить функции вычислительной системы между несколькими независимыми компьютерам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се данные хранятся на защищенном сервер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ддержка многопользовательской работ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гарантия целостности данных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Недостатки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работоспособность сервера может сделать неработоспособной всю вычислительную сет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ложное администрировани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ысокая стоимость оборудован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бизнес логика приложений осталась в клиентском П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ногоуровневая архитектура «клиент-сервер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8484-A0AB-4484-A7B4-32CEA0970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928800" y="1357200"/>
          <a:ext cx="7000920" cy="46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357200"/>
                    <a:ext cx="7000920" cy="46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ногоуровневая архитектура «клиент-сервер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C671-C998-4A01-951F-474938EAD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18872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Достоинства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лиентское ПО не нуждается в администрирован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асштабируем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фигурируем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сокая безопасность и надежн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изкие требования к скорости канала между терминалами и сервером прилож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изкие требования к производительности и техническим характеристикам терминал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Недостатки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ожность администрирования и обслужива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олее высокая сложность создания прилож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сокие требования к производительности серверов приложений и сервера базы данны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сокие требования к скорости канала (сети) между сервером базы данных и серверами прилож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рхитектура распределенных систе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8CBA-FB7F-4FEA-A0ED-F13142745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2071800" y="1571760"/>
          <a:ext cx="457200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571760"/>
                    <a:ext cx="457200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рхитектура Веб-приложени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0DD9-4784-4C82-99E6-0571D1151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3"/>
          <p:cNvGraphicFramePr/>
          <p:nvPr/>
        </p:nvGraphicFramePr>
        <p:xfrm>
          <a:off x="1285920" y="1214280"/>
          <a:ext cx="64515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214280"/>
                    <a:ext cx="64515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рхитектура Веб-приложени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B4FD-3C6C-4C41-9728-3957C3856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18872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утствие необходимости использовать дополнительное ПО на стороне клиен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ость подключения практически неограниченного количества клиен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нтрализованное место хранения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тупность при отсутствии работоспособности сервера или каналов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аточно низкая скорость Веб-сервера и каналов передачи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ервис-ориентированная архитектур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9587-D3EA-4B58-BDC4-08EF532D6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1887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Сервис-ориентированная архитектура (SOA)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– модульный подход к разработке программного обеспечения, основанный на использовании сервисов со стандартизированными интерфейсам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ринципы SOA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архитектура не привязана к какой-то определенной технологи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зависимость организации системы от используемой вычислительной платформ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зависимость организации системы от применяемых языков программирован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спользование сервисов, независимых от конкретных приложений, с единообразными интерфейсами доступа к ним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рганизация сервисов как слабосвязанных компонентов для построения систем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просы лекц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2828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. Общая характерист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исциплин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.Основные понятия и опреде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. Характеристика информационной системы как объекта архитекту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AAB6-8BCB-48C3-9D61-653D8EC3C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Общая характеристика дисциплин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исциплина читается в 3 и 4 семестр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семестр: 18 ч. лекций и 36 ч. лабораторны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ч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семестр: 16 ч. лекций и 34 ч. лабораторны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заме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1225-F4C0-455B-8B20-D150BDD6C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6080" y="260280"/>
            <a:ext cx="7470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Основные понятия и определения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рхитектура –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это набор значимых решений по поводу организации системы программного обеспечения, набор структурных элементов и их интерфейсов, при помощи которых компонуется система, вместе с их поведением, определяемым во взаимодействии между этими элементами, компоновка элементов в постепенно укрупняющиеся подсистемы, а также стиль архитектуры, который направляет эту организацию – элементы и их интерфейсы, взаимодействия и компоновк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B2F2-A69A-4916-8DE3-D46755AC5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нтрализованная архитектур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BDB4-A790-406C-AF0D-4CC87FD65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5"/>
          <p:cNvGraphicFramePr/>
          <p:nvPr/>
        </p:nvGraphicFramePr>
        <p:xfrm>
          <a:off x="2071800" y="1428840"/>
          <a:ext cx="4357440" cy="43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428840"/>
                    <a:ext cx="435744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нтрализованная архитектур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041E-ED0F-40B1-83A8-8CDE252C1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остоинства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льзователи совместно используют дорогие ресурсы ЭВМ и дорогие периферийные устройств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централизация ресурсов и оборудования облегчает обслуживание и эксплуатацию вычислительной систем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тсутствует необходимость администрирования рабочих мест пользователей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Главный недостаток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льзователи полностью зависят от администратора хост-ЭВ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рхитектура «файл-сервер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FBD0-B16C-4D76-B7BB-1B3FF37B1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3"/>
          <p:cNvGraphicFramePr/>
          <p:nvPr/>
        </p:nvGraphicFramePr>
        <p:xfrm>
          <a:off x="2428920" y="1428840"/>
          <a:ext cx="378612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428840"/>
                    <a:ext cx="378612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рхитектура «файл-сервер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C24A-00E2-478B-8223-3F57A97DA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Достоинства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многопользовательский режим работы с данным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добство централизованного управления доступом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изкая стоимость разработк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ысокая скорость разработк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высокая стоимость обновления и изменения П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Недостатки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облемы многопользовательской работы с данным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изкая производительност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лохая возможность подключения новых клиенто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надежность систем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вухуровневая архитектура «клиент-сервер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EACA-916F-4BE6-8F28-252E7E7F0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3"/>
          <p:cNvGraphicFramePr/>
          <p:nvPr/>
        </p:nvGraphicFramePr>
        <p:xfrm>
          <a:off x="1857240" y="1357200"/>
          <a:ext cx="4786560" cy="50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1357200"/>
                    <a:ext cx="478656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3:06:53Z</dcterms:created>
  <dc:creator>Несвижский А.И., Рябов В.А.</dc:creator>
  <dc:description/>
  <dc:language>en-US</dc:language>
  <cp:lastModifiedBy>1</cp:lastModifiedBy>
  <dcterms:modified xsi:type="dcterms:W3CDTF">2012-09-18T17:48:56Z</dcterms:modified>
  <cp:revision>31</cp:revision>
  <dc:subject> Лекция 4. Архитектурные особенности проектирования и разработки Веб-приложений</dc:subject>
  <dc:title>Современные веб-технологии. Подробный курс</dc:title>
</cp:coreProperties>
</file>